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camera.wav" ContentType="audio/x-wav"/>
  <Override PartName="/ppt/media/type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E7354-F984-4FDF-B105-8D48E74A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1714-8F5C-4D3E-A86B-97E31769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CBBC-3141-4002-9B94-3279FAEF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35FA1-B762-40FC-AD87-B338D153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D3C5-8878-4378-B6E0-EF36E1E3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FFD6-EB09-4088-9DFF-32E0B8B3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4FE7-3941-47A4-A242-84993718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6D92-D5ED-4161-A757-18F9C6CF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61D6-3AE5-4D5B-941A-D666BF99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EAA6-C70E-45BE-90F3-11BD1DA1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7EB5-4E04-406A-A15A-119F9EFB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2554-4FB2-4A17-B007-925D8DBA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F439-4186-4ABA-B5C4-2484F8AC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48B2-122C-48CD-B5B5-30970B4D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DB24-FD61-4E68-BD85-7E744A00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796A-EFB4-4203-BB99-5CC22375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73F1-ACA5-4ABA-B49F-B3D48DFD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BF9B0-4005-4A46-B9B8-774940FF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3AA8-BDE6-4509-A747-AD53DBBE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56F0-8029-4CB6-87B1-597EADF3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3C69-352E-4BFC-95FD-E172CD7F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6ADF-7A96-46E5-9E08-4339D61C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E4EC-6367-4124-9D29-AAFAF165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B71B-42C7-416D-A3B1-31B41734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D9B2-2738-48C4-A30D-E4C2C02C59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4366-A5E4-411D-A231-4854F35E7A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gypt and Nubia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Eric Ma and Erin Stan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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Egypt and Nubia’s history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pt and Nubia were very, very peaceful Neighb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Egypt took of advantage of Nubia because of their lan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  <p:sndAc>
      <p:stSnd>
        <p:snd r:embed="rId1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b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bia was a great trade route between Africa and Egy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lso had great education center/progr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lso had skilled archer which is why Egypt calls Nubia “the Land of the Bow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gyp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pt was a great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ook advantage of many countries. Mostly Nub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day Nubia started taking control of Egy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anks for Listening our presentation!!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pe you enjoyed our PowerPoint!!!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by: Eric Ma and Erin Stan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8:24:51Z</dcterms:created>
  <dc:creator>Default</dc:creator>
  <dc:description/>
  <dc:language>en-US</dc:language>
  <cp:lastModifiedBy>Default</cp:lastModifiedBy>
  <dcterms:modified xsi:type="dcterms:W3CDTF">2009-01-15T18:43:51Z</dcterms:modified>
  <cp:revision>4</cp:revision>
  <dc:subject/>
  <dc:title>Egypt and Nubia </dc:title>
</cp:coreProperties>
</file>